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E1E3-C624-4EA7-9A80-F69B8919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F8C8-E935-4C5E-8478-AA2A5039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A9B8-8EEC-4D54-BC2A-9A764991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39FE-69F3-4C6F-BAA1-D0D79F5F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8E7F-1B1D-481C-B6C0-FCF417B7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52FD-2405-4FBD-84A1-B1FCD4E8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D3EF-2D39-47FA-A257-9A72A4F3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23CA-EDC6-43E1-B552-D8855EB7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CA00-899D-4533-AF0F-7953E1D0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66D5-26CA-402A-A05E-4D71AEEF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C2C9-74A3-4233-B1D7-618EF85F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5DE5-83D8-431F-BEC1-1257D19E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1C73-8EC6-4B6D-AE0B-E1498A1E56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slide" Target="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79480" y="0"/>
          <a:ext cx="736452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9480" y="0"/>
                    <a:ext cx="73645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3352680" y="6669000"/>
            <a:ext cx="5562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352680" y="5181480"/>
            <a:ext cx="0" cy="15242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590920" y="5181480"/>
            <a:ext cx="7617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590920" y="4267080"/>
            <a:ext cx="0" cy="914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4267080"/>
            <a:ext cx="7617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352680" y="3580920"/>
            <a:ext cx="0" cy="685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05320" y="3733920"/>
            <a:ext cx="0" cy="53316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4267080"/>
            <a:ext cx="60948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267080"/>
            <a:ext cx="0" cy="83844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504960" y="5105520"/>
            <a:ext cx="60948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5105520"/>
            <a:ext cx="0" cy="144756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6553080"/>
            <a:ext cx="449568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924680" y="3580920"/>
            <a:ext cx="0" cy="297180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153280" y="3538440"/>
            <a:ext cx="0" cy="327672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657600" y="6772320"/>
            <a:ext cx="4495680" cy="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657600" y="5138280"/>
            <a:ext cx="0" cy="167652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5181480"/>
            <a:ext cx="609480" cy="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267080" y="4724280"/>
            <a:ext cx="0" cy="45720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4724280"/>
            <a:ext cx="1752840" cy="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019920" y="3505320"/>
            <a:ext cx="0" cy="12189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3505320"/>
            <a:ext cx="838080" cy="0"/>
          </a:xfrm>
          <a:prstGeom prst="line">
            <a:avLst/>
          </a:prstGeom>
          <a:ln w="572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934320" y="2057400"/>
            <a:ext cx="0" cy="13716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0400" y="2057400"/>
            <a:ext cx="373392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2057400"/>
            <a:ext cx="0" cy="60948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28600"/>
            <a:ext cx="685800" cy="6126840"/>
          </a:xfrm>
          <a:prstGeom prst="rect">
            <a:avLst/>
          </a:prstGeom>
          <a:solidFill>
            <a:srgbClr val="00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80"/>
                </a:solidFill>
                <a:latin typeface="Times New Roman"/>
                <a:ea typeface="黑体"/>
              </a:rPr>
              <a:t>林黛玉进贾府线路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0"/>
          <a:ext cx="1353960" cy="20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>
                    <a:hlinkClick r:id="rId4" action="ppaction://hlinksldjump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0"/>
                    <a:ext cx="135396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25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45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3352680" cy="7034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贾府人物关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84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贾演－贾代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08480" y="644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4920" y="784080"/>
            <a:ext cx="144720" cy="63828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38280"/>
              <a:gd name="textAreaBottom" fmla="*/ 621720 h 6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19640" y="414360"/>
            <a:ext cx="15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贾　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19640" y="995400"/>
            <a:ext cx="16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贾　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95720" y="685800"/>
            <a:ext cx="262080" cy="998640"/>
          </a:xfrm>
          <a:custGeom>
            <a:avLst/>
            <a:gdLst>
              <a:gd name="textAreaLeft" fmla="*/ 167400 w 262080"/>
              <a:gd name="textAreaRight" fmla="*/ 262440 w 262080"/>
              <a:gd name="textAreaTop" fmla="*/ 25920 h 998640"/>
              <a:gd name="textAreaBottom" fmla="*/ 972720 h 99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03880" y="34308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贾　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1274760"/>
            <a:ext cx="15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贾惜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07120" y="922320"/>
            <a:ext cx="164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秦可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4440" y="3378240"/>
            <a:ext cx="323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贾源－贾代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3809880"/>
            <a:ext cx="15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史太君贾　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26000" y="232416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21040" y="316224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03640" y="2443320"/>
            <a:ext cx="377640" cy="3805200"/>
          </a:xfrm>
          <a:custGeom>
            <a:avLst/>
            <a:gdLst>
              <a:gd name="textAreaLeft" fmla="*/ 241200 w 377640"/>
              <a:gd name="textAreaRight" fmla="*/ 378000 w 377640"/>
              <a:gd name="textAreaTop" fmla="*/ 99000 h 3805200"/>
              <a:gd name="textAreaBottom" fmla="*/ 3706200 h 380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6096"/>
                </a:lnTo>
                <a:cubicBezTo>
                  <a:pt x="10800" y="6996"/>
                  <a:pt x="5400" y="7896"/>
                  <a:pt x="0" y="7896"/>
                </a:cubicBezTo>
                <a:cubicBezTo>
                  <a:pt x="5400" y="7896"/>
                  <a:pt x="10800" y="8796"/>
                  <a:pt x="10800" y="969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48000" y="217188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_x000b__x000c_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贾　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54560" y="2629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邢夫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76960" y="2171880"/>
            <a:ext cx="2590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2286000"/>
            <a:ext cx="139680" cy="1003320"/>
          </a:xfrm>
          <a:custGeom>
            <a:avLst/>
            <a:gdLst>
              <a:gd name="textAreaLeft" fmla="*/ 89280 w 139680"/>
              <a:gd name="textAreaRight" fmla="*/ 140040 w 13968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10360" y="1943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贾　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2324160"/>
            <a:ext cx="15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王熙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42080" y="17827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16840" y="2171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Times New Roman"/>
                <a:ea typeface="黑体"/>
              </a:rPr>
              <a:t>巧　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10360" y="2857680"/>
            <a:ext cx="163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贾迎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4320" y="3811680"/>
            <a:ext cx="15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贾　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54560" y="4243320"/>
            <a:ext cx="15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王夫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52920" y="3687840"/>
            <a:ext cx="2362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3733920"/>
            <a:ext cx="152280" cy="198108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5058"/>
                </a:lnTo>
                <a:cubicBezTo>
                  <a:pt x="10800" y="5958"/>
                  <a:pt x="5400" y="6858"/>
                  <a:pt x="0" y="6858"/>
                </a:cubicBezTo>
                <a:cubicBezTo>
                  <a:pt x="5400" y="6858"/>
                  <a:pt x="10800" y="7758"/>
                  <a:pt x="10800" y="865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10360" y="345924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贾　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61200" y="3375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93080" y="3611520"/>
            <a:ext cx="15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Times New Roman"/>
                <a:ea typeface="黑体"/>
              </a:rPr>
              <a:t>贾　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4191120"/>
            <a:ext cx="16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贾元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57800" y="4800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贾宝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3640" y="5373720"/>
            <a:ext cx="45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贾探春贾环</a:t>
            </a:r>
            <a:r>
              <a:rPr b="1" lang="zh-CN" sz="2800" spc="-1" strike="noStrike">
                <a:solidFill>
                  <a:srgbClr val="808080"/>
                </a:solidFill>
                <a:latin typeface="隶书"/>
                <a:ea typeface="隶书"/>
              </a:rPr>
              <a:t>（赵姨娘生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05320" y="5715000"/>
            <a:ext cx="168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贾　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60958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林如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97400" y="593568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5943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林黛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6120" y="1162440"/>
            <a:ext cx="667800" cy="1758600"/>
          </a:xfrm>
          <a:prstGeom prst="rect">
            <a:avLst/>
          </a:prstGeom>
          <a:solidFill>
            <a:srgbClr val="ff3300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华文琥珀"/>
              </a:rPr>
              <a:t>宁国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6120" y="3677040"/>
            <a:ext cx="667800" cy="1758600"/>
          </a:xfrm>
          <a:prstGeom prst="rect">
            <a:avLst/>
          </a:prstGeom>
          <a:solidFill>
            <a:srgbClr val="ff3300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华文琥珀"/>
              </a:rPr>
              <a:t>荣国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20080" y="490680"/>
            <a:ext cx="169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Times New Roman"/>
                <a:ea typeface="黑体"/>
              </a:rPr>
              <a:t>贾　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42080" y="2441520"/>
            <a:ext cx="43200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62880" y="3954600"/>
            <a:ext cx="43164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03920" y="6240600"/>
            <a:ext cx="50472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32720" y="995400"/>
            <a:ext cx="43164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774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尤　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38098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李  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2920" y="3976560"/>
            <a:ext cx="2592360" cy="648000"/>
          </a:xfrm>
          <a:prstGeom prst="cloudCallout">
            <a:avLst>
              <a:gd name="adj1" fmla="val -30773"/>
              <a:gd name="adj2" fmla="val -257351"/>
            </a:avLst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1080" y="1816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隶书"/>
                <a:ea typeface="隶书"/>
              </a:rPr>
              <a:t>史  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71640" y="1816200"/>
            <a:ext cx="208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华文行楷"/>
                <a:ea typeface="华文行楷"/>
              </a:rPr>
              <a:t>女：贾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华文行楷"/>
                <a:ea typeface="华文行楷"/>
              </a:rPr>
              <a:t>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48000" y="2535120"/>
            <a:ext cx="4176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华文仿宋"/>
                <a:ea typeface="华文仿宋"/>
              </a:rPr>
              <a:t>子：史鼐</a:t>
            </a:r>
            <a:r>
              <a:rPr b="1" lang="zh-CN" sz="3200" spc="-1" strike="noStrike">
                <a:solidFill>
                  <a:srgbClr val="ff3300"/>
                </a:solidFill>
                <a:latin typeface="华文仿宋"/>
                <a:ea typeface="华文仿宋"/>
              </a:rPr>
              <a:t>（保龄侯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华文仿宋"/>
                <a:ea typeface="华文仿宋"/>
              </a:rPr>
              <a:t>子：史鼎</a:t>
            </a:r>
            <a:r>
              <a:rPr b="1" lang="zh-CN" sz="3200" spc="-1" strike="noStrike">
                <a:solidFill>
                  <a:srgbClr val="ff3300"/>
                </a:solidFill>
                <a:latin typeface="华文仿宋"/>
                <a:ea typeface="华文仿宋"/>
              </a:rPr>
              <a:t>（忠靖侯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华文仿宋"/>
                <a:ea typeface="华文仿宋"/>
              </a:rPr>
              <a:t>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96000" y="3976560"/>
            <a:ext cx="23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方正舒体"/>
                <a:ea typeface="方正舒体"/>
              </a:rPr>
              <a:t>女：史湘云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方正舒体"/>
                <a:ea typeface="方正舒体"/>
              </a:rPr>
              <a:t>婿：卫若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000" y="2103480"/>
            <a:ext cx="50328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43280" y="2895480"/>
            <a:ext cx="50328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4335480"/>
            <a:ext cx="50328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81440" y="2679840"/>
            <a:ext cx="718920" cy="36036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56360" y="4119480"/>
            <a:ext cx="718920" cy="36036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8000" y="397656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保龄侯尚书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3352680" cy="703440"/>
          </a:xfrm>
          <a:prstGeom prst="rect">
            <a:avLst/>
          </a:prstGeom>
          <a:solidFill>
            <a:srgbClr val="00cc99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史家人物关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41280" y="110160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隶书"/>
              </a:rPr>
              <a:t>王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43120" y="1106640"/>
            <a:ext cx="8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华文隶书"/>
              </a:rPr>
              <a:t>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38360" y="1249200"/>
            <a:ext cx="719280" cy="36036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00560" y="1465200"/>
            <a:ext cx="50328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05280" y="1139760"/>
            <a:ext cx="2376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子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子：王子膳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女：王夫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女：薛姨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68920" y="1106640"/>
            <a:ext cx="223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方正舒体"/>
                <a:ea typeface="方正舒体"/>
              </a:rPr>
              <a:t>子：王　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方正舒体"/>
                <a:ea typeface="方正舒体"/>
              </a:rPr>
              <a:t>女：王熙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59440" y="1249200"/>
            <a:ext cx="71892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64200" y="1465200"/>
            <a:ext cx="50328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39840" y="1465200"/>
            <a:ext cx="50328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7840" y="42022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仿宋_GB2312"/>
              </a:rPr>
              <a:t>　　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黑体"/>
              </a:rPr>
              <a:t>王狗儿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仿宋_GB2312"/>
              </a:rPr>
              <a:t>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王夫人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仿宋_GB2312"/>
              </a:rPr>
              <a:t>孙子辈。王狗儿的祖父是王夫人的父亲认的连宗宗侄，与王夫人平辈。王狗儿的妻子刘氏是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方正舒体"/>
              </a:rPr>
              <a:t>刘姥姥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仿宋_GB2312"/>
              </a:rPr>
              <a:t>的女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3352680" cy="7034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王家人物关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35080" y="963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隶书"/>
              </a:rPr>
              <a:t>薛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47800" y="9604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43040" y="1103400"/>
            <a:ext cx="719280" cy="36036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1295280"/>
            <a:ext cx="45720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44520" y="1319040"/>
            <a:ext cx="50328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35440" y="1031760"/>
            <a:ext cx="25923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子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子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143000"/>
            <a:ext cx="719280" cy="3603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1371600"/>
            <a:ext cx="50328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2895480"/>
            <a:ext cx="719280" cy="3603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3352680"/>
            <a:ext cx="50328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77120" y="2743200"/>
            <a:ext cx="223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女：薛宝钗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子：薛　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685800"/>
            <a:ext cx="234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子：薛　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女：薛宝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1295280"/>
            <a:ext cx="0" cy="182880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3124080"/>
            <a:ext cx="43632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4724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仿宋_GB2312"/>
              </a:rPr>
              <a:t>　　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封肃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甄士隐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的岳父。甄士隐是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香菱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的生父，香菱后来做了薛蟠的妾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邢岫烟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是薛蝌的妻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薛姨妈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姓王，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王夫人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的妹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65240" y="3429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薛姨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3352680" cy="7034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薛家人物关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04-27T02:28:02Z</dcterms:modified>
  <cp:revision>6</cp:revision>
  <dc:subject/>
  <dc:title/>
</cp:coreProperties>
</file>